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447-6E08-4587-82F6-C5F46C4C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B44-CCF1-41DB-A9FF-EC53C9F5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C56-F303-406A-BFF0-ED5CC92A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1B7-F7A5-46E2-8EEA-7B3E8448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3DE-DE55-43F1-9508-4AF224CF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83D-D089-41B8-A896-586ADD50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4E4-05B9-435E-870A-3B9B330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BC9-94B3-4113-9C4B-637AB649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162-3B16-4085-B5D0-832F0B81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0F8-5C4F-4B8D-A31F-EB30493B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34B-E97C-40B5-945B-55E111A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921-3C5A-4FC0-946D-E0F80BA3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E59-356D-465A-873F-8D1A6F8798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30.xml"/><Relationship Id="rId8" Type="http://schemas.openxmlformats.org/officeDocument/2006/relationships/slide" Target="slide30.xml"/><Relationship Id="rId9" Type="http://schemas.openxmlformats.org/officeDocument/2006/relationships/slide" Target="slide30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41.xml"/><Relationship Id="rId13" Type="http://schemas.openxmlformats.org/officeDocument/2006/relationships/slide" Target="slide41.xml"/><Relationship Id="rId14" Type="http://schemas.openxmlformats.org/officeDocument/2006/relationships/slide" Target="slide41.xml"/><Relationship Id="rId15" Type="http://schemas.openxmlformats.org/officeDocument/2006/relationships/slide" Target="slide54.xml"/><Relationship Id="rId16" Type="http://schemas.openxmlformats.org/officeDocument/2006/relationships/slide" Target="slide54.xml"/><Relationship Id="rId17" Type="http://schemas.openxmlformats.org/officeDocument/2006/relationships/slide" Target="slide54.xml"/><Relationship Id="rId18" Type="http://schemas.openxmlformats.org/officeDocument/2006/relationships/slide" Target="slide54.xml"/><Relationship Id="rId19" Type="http://schemas.openxmlformats.org/officeDocument/2006/relationships/slide" Target="slide54.xml"/><Relationship Id="rId20" Type="http://schemas.openxmlformats.org/officeDocument/2006/relationships/slide" Target="slide54.xml"/><Relationship Id="rId21" Type="http://schemas.openxmlformats.org/officeDocument/2006/relationships/slide" Target="slide54.xml"/><Relationship Id="rId22" Type="http://schemas.openxmlformats.org/officeDocument/2006/relationships/slide" Target="slide54.xml"/><Relationship Id="rId23" Type="http://schemas.openxmlformats.org/officeDocument/2006/relationships/slide" Target="slide54.xml"/><Relationship Id="rId24" Type="http://schemas.openxmlformats.org/officeDocument/2006/relationships/hyperlink" Target="file:///&#30446;&#24405;.ppt" TargetMode="External"/><Relationship Id="rId25" Type="http://schemas.openxmlformats.org/officeDocument/2006/relationships/audio" Target="../media/projctor.wav"/><Relationship Id="rId2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通用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371600"/>
            <a:ext cx="800100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1" action="ppaction://hlinksldjump"/>
              </a:rPr>
              <a:t>1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中数组类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4" action="ppaction://hlinksldjump"/>
              </a:rPr>
              <a:t>2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中链表类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7" action="ppaction://hlinksldjump"/>
              </a:rPr>
              <a:t>3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中字符串类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CString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1" action="ppaction://hlinksldjump"/>
              </a:rPr>
              <a:t>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12" action="ppaction://hlinksldjump"/>
              </a:rPr>
              <a:t>4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3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中日期和时间类的使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5.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MFC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中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CPoint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类、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CSize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类和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CRect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类的使用方法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4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5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95280"/>
            <a:ext cx="7925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All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false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581280"/>
            <a:ext cx="792504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216160"/>
            <a:ext cx="7924680" cy="825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tringArray m_strArr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276720"/>
            <a:ext cx="792468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rrayView::CArray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.SetSize(5,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[0] = "111111111111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[2] = "333333333333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strArray[4] = "555555555555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91520" y="99072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调用对话框并处理数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5238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视类中添加数组对象并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066680"/>
            <a:ext cx="739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编辑菜单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菜单“编辑”下添加两个菜单项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D_EDIT_ADD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置添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D_EDIT_DELETE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7242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D_EDIT_AD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52280"/>
            <a:ext cx="861084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ArrayView::OnEditAd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Add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Index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strValue = "Default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result = 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result == 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Array.SetAtGrow(dlg.m_nIndex, dlg.m_str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 (dlg.m_nRadio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Array.Add(dlg.m_strVal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Array.InsertAt(dlg.m_nIndex, dlg.m_strValue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380880"/>
            <a:ext cx="8839440" cy="6469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CArrayView::OnEditDelete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CDlgDelete dl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dlg.m_nRadio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dlg.m_nIndex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nt result = dlg.DoModa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f (result == ID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f (dlg.m_nRadio=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m_strArray.RemoveAll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f(m_strArray.GetUpperBound() &lt; dlg.m_nInde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AfxMessageBox("The index is large than  array upper bound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m_strArray.RemoveAt(dlg.m_nInde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Invalidat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22520" y="-76320"/>
            <a:ext cx="57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80880"/>
            <a:ext cx="8839440" cy="6626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void CArrayView::OnDraw(CDC* p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ArrayDoc* pDoc = GetDocu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TEXTMETRIC textMetri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DC-&gt;GetTextMetrics(&amp;textMetri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int fontHeight = textMetric.tmHe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int count = m_strArray.GetSiz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int displayPos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for (int x=0; x&lt;count; ++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CString strValue = m_strArray.GetAt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DC-&gt;TextOut(10, displayPos, str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isplayPos += fontHeigh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0000" y="-7632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载视类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2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链表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链表类及其常用成员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链表类处理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676160" y="2057040"/>
            <a:ext cx="60195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模板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ypedPt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模板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b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t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链表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BlockSize = 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move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move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Add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Add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st* pNewLi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Add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AddTai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st* pNewLi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move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GetHeadPosi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GetTailPosi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Ne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&amp; rPos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Pre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&amp; rPos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pos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SITION pos, 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链表类的常用成员函数——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s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Remove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posi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InsertBefo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position, ARG_TYPE newEleme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InsertAf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position, ARG_TYPE newEleme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Fi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_TYPE searchValue, POSITION startAfter = 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SITION FindInde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Get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Is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链表类的常用成员函数——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s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组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数组类及其常用成员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的数组类处理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-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74880"/>
            <a:ext cx="883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一个基于单文档的应用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Lis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A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Group Box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添加结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Static Text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姓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Static Text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成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NAME  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SCORE 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  Button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  Button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6840" y="449568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NAME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SCORE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974880"/>
            <a:ext cx="883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DELE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Group Box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删除结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H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Radio Button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头结点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TAIL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Radio Button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尾结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NUMBER    Radio Button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指定结点序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    Static Text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结点序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NUMBER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   Button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   Button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880" y="4419720"/>
            <a:ext cx="629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RADIO_HEAD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m_nR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NUMBER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50804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D_DIALOG_A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39920"/>
            <a:ext cx="670572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DlgAdd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438280"/>
            <a:ext cx="807696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OOL CDlgDelete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(CButton*)GetDlgItem(IDC_RADIO_HEAD))-&gt;SetCheck(1);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false);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75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D_DIALOG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762120"/>
            <a:ext cx="807696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DlgDelete::OnRadioHea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743200"/>
            <a:ext cx="807696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Tail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724280"/>
            <a:ext cx="73152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Number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GetDlgItem(IDC_EDIT_NUMBER)-&gt;EnableWindow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--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762120"/>
            <a:ext cx="807696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oid CDlgDelete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312408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调用对话框并处理数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视类头文件中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体添加链表类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truct C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int m_nScor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在视类添加链表类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protec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PtrList m_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9144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编辑菜单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菜单“编辑”下添加两个菜单项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号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_EDIT_ADD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D_EDIT_DELETE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删除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5720" y="3124080"/>
            <a:ext cx="52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52280"/>
            <a:ext cx="845820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ListView::OnEditAd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Add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strName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Score = 0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result = 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result == 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Create and initialize the new no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udent* m_pStudent = new CStud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-&gt;m_strName = dlg.m_str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-&gt;m_nScore = dlg.m_nSco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Add the node to the l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AddTail(m_pStud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Repaint the wind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533520"/>
            <a:ext cx="9144000" cy="13302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ListView::OnEditDelet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Delete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result = 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result == 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udent* m_pStudent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m_List.IsEmpt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结点已经全部删除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 = (CStudent*)m_List.RemoveHea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dlg.m_nRadio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 = (CStudent*)m_List.RemoveTai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dlg.m_nNumber &lt; m_List.GetCoun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 = m_List.FindIndex(dlg.m_n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1 = p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Student = (CStudent*)m_List.GetNext(pos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RemoveA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指定结点超出范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pStud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m_pStud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41400"/>
            <a:ext cx="57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8534160" cy="70052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Li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TEXTMETRIC textMetri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C-&gt;GetTextMetrics(&amp;textMetri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fontHeight = textMetric.tm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OSITION pos = m_List.GetHeadPosi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int displayPosition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hile (pos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tudent* m_pStudent = (CStudent*) m_List.GetNex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har s[8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wsprintf(s, "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的成绩是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%d.",m_pStudent-&gt;m_nSco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String m_string=m_pStudent-&gt;m_strName+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C-&gt;TextOut(10, displayPosition, m_stri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isplayPosition += fontH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9240" y="4140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重载视类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Byte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DWord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Ptr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UInt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Word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Arr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22520" y="449280"/>
            <a:ext cx="477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数组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3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字符串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字符串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其常用成员函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字符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Get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获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包含字符串的长度（字符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Is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测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包含的字符串是否为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包含的字符串为空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HAR Get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获得字符串指定位置处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HAR operator 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获得字符串指定位置处的字符，作用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t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nIndex, TCHAR c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设定字符串指定位置处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LPCTST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返回指向储存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内的字符串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将一个新的值赋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将两个字符串合并成一个新的字符串。在两个参数中必须有一个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的，而另一个参数可以是字符、字符指针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or +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在一个字符串的后面再添加一个字符串或一个字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重载了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比较运算符，可用于两个字符串间的各种比较运算，比较时区分大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形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Compa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CTSTR lpsz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比较两个字符串，如果两个字符串相等，返回值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如果本对象大于参数字符串，返回值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如果本对象小于参数字符串，返回值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比较时区分大小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reNo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CompareNo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CTSTR lpsz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类似，不同的是在忽略字符大小写的情况下比较两个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有两个重载函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M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Firs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获取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Fir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置开始的子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M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First, int nCou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获取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Firs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置开始包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符的子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CString Le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Cou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获取字符串左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长度的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R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Cou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获取字符串右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长度的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SpanInclu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CharS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从字符串中提取包含在指定字符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字符的子串。它从字符串的第一个字符开始，直到遇到不属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字符为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String SpanExclu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CharS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从字符串中提取不包含在指定字符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字符的子串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中所有的字符全部转化成大写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中所有的字符全部转化成小写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keRe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倒置，即将字符的顺序颠倒，第一个字符变成最后一个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Repla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Old, TCHAR chNew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Repla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Old, LPCTSTR lpszNew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将字符串中的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O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字符子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Ol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替换成新的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N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N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.   void CString::TrimLe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Targ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CString::TrimLe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Targets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删除字符串左边开头的字符或字符子串，参数缺省时删除左边的空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CString::TrimR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Targ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CString::TrimR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Targets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删除字符串右边开头的字符或字符子串，参数缺省时删除右边的空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Su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, int n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pstr, int nStar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在字符串中查找指定的字符或字符串。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要查找的字符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Su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要查找的字符子串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Sta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查找的起始位置，如缺省为从最左边开始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st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欲查找子串的指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verse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Reverse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HAR ch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返回字符串中最后一个和指定的字符匹配的字符的下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ndOn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indOn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CTSTR lpszCharSe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在字符串中查找第一个和指定的字符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pszCharS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任何一个字符匹配的字符的位置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-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609480"/>
            <a:ext cx="883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连结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工作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正常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3=m_str1+m_s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第三行后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str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应该是“工作正常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384280"/>
            <a:ext cx="88390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比较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"b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t result=m_str1.Compare(m_s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f(result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两者相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else if(result&g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"m_str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大于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"m_str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小于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结果在信息框中显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两个字符串比较大小时从第一个字母开始，按照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比较。如果第一个字母相同，再比较下一个字母。依次往下直到比较出大小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1371600"/>
            <a:ext cx="876312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提取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abcde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m_str1.Left(1)+m_str1.Mid(2,1)+m_str1.Righ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fxMessageBox(m_str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结果在信息框中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左边的一个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M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取得从索引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始的一个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得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右边的一个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914400"/>
            <a:ext cx="784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查找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1="abcde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2="deq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nt index=m_str1.Find(m_s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if(index&gt;=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har s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wsprintf(s,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匹配字符的下标为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%d",ind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essageBox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essageBox(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没有匹配字符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结果在信息框中显示“没有匹配字符”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.Fi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查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内容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eq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由于未找到返回 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A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_TYPE 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&amp;  Elemen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FreeExtr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YPE G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Get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GetUpperBou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)void Inser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, ARG_TYPE newElement, int nCount = 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)void Inser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StartIndex, CArray* pNewArray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RemoveA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, 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AtG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Index, ARG_TYPE newEleme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et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NewSize, int nGrowBy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th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moryExcep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组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9144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变换字符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m_str="   ABCabc   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.TrimLef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.TrimRigh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_str.MakeUpp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essageBox(m_st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运行结果在信息框中显示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ABC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.TrimLe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.TrimRigh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分别去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左边和右边的空格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.MakeUppe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）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_st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的所有字母转换成大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4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日期和时间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时间间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构造和初始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对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有下列构造函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 CTime&amp; timeSrc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me_t tim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Year, int nMonth, int nDay, int nHour, int nMin, int nSec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D wDosDate, WORD wDosTime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 SYSTEMTIME&amp; sysTime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st FILETIME&amp; fileTime, int nDST = -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：以不同的方式构造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。可以用一个已经存在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或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me_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me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被定义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类型变量来构造和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，也可以用年、月、日、小时、分、秒来构造和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，还可以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YSTEM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构来构造和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YSTEM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TI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构定义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时间值的提取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Curren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  获取系统当前时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atic CTime PASCAL GetCurren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 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返回一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ime_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ime_t Get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Yea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 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原型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GetYea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以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至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函数原型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Yea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类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Mon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Da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日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Hou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小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Minut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Seco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DayOfWee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代表的星期几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日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一、等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格式化时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 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中的时间信息转化为一个格式化的字符串。其函数原型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String 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PCTSTR pForma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String 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UINT nFormatI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Forma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格式字符串，类似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rint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的格式字符串，格式字符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周的英文缩写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周的英文全名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月的英文缩写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月的英文全名形式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完整的日期和时间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十进制形式的日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1-3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制的小时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2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制的小时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j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一年中的第几天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1-36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月的十进制表示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1-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十进制表示的分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制的上下午标示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M/P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秒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一年中的第几个星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星期日是一周的第一天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一年中的第几个星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0-5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星期一是一周的第一天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星期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-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%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十进制表示的年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FormatID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是格式字符串资源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号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重载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赋予新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增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减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+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加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-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减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=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是否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!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是否不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g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，是否前一个大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lt;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比较两个绝对时间，是否前一个小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gt;=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比较两个绝对时间，是否前一个大于等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perator &lt;=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比较两个绝对时间，是否前一个小于等于后一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获取当前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Time m_time=CTime::GetCurrentTim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String s=m_time.Format("%A,%B,%d,%Y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String m_strTime="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前时间是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"+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essageBox(m_str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行结果在信息框中显示“当前时间是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nday,February,4,200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程序第一行获取系统当前时间，并赋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第二行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一个字符串对象，将该字符串赋给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周的英文全名形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月的英文全名形式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十进制形式的日期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1-3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 十进制表示的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由年、月、日得到对应的周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Time m_time(2001,2,5,12,0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weekday=m_time.GetDayOfWee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witch(week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7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结果在信息框中显示“今天是周一”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.GetDayOfWee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的周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日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一等等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由年、月、日得到对应的周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Time m_time(2001,2,5,12,0,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weekday=m_time.GetDayOfWeek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witch(week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日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一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三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se 7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essageBox("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今天是周六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结果在信息框中显示“今天是周一”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.GetDayOfWee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获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tim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的周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日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表周一等等）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构造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有下列构造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st CTimeSpan&amp; timeSpanSr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_t ti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NG lDays, int nHours, int nMins, int nSec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SpanSr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一个已存在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me_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的时间值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Days, nHours, nMins, nSec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为天数、小时数、分数和秒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-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09480"/>
            <a:ext cx="883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一个基于单文档的应用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rr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A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Group Box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添加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SET         Radio Button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ADD        Radio Button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添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INSE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Radio Butt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插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Static Text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数组元素下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INDEX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  Static Text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VALUE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Button 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Button 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600" y="495288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RADIO_SET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R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INDEX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VALUE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tr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时间值的提取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Day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天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Hou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当天的小时数，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TotalHour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小时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Minut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当前小时包含的分数，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TotalMinut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分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econ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 获得当前分钟包含的秒数，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TotalSecond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  获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对象中包含的完整的秒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格式化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 将一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转换成格式字符串。使用方式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似，格式化字符包括以下几个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总天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不足整天的小时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不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时的分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不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钟的秒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   百分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重载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也重载了运算符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=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的赋值、加减运算及两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的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：构造一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TimeSp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象，并获取其中的完整天数、小时数、分数和秒数，将获得的信息在信息框中显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TimeSpan m_timespan(3,4,5,6);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//  3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天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小时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分，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Days=m_timespan.GetDays();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天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Hours=m_timespan.GetTotalHours(); 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小时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Minutes=m_timespan.GetTotalMinutes();   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分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LONG m_totalSeconds=m_timespan.GetTotalSeconds();   //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获得完整秒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har s1[8], s2[8], s3[8], s4[8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1,"%ld",m_totalDay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2,"%ld",m_totalHou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3,"%ld",m_totalMinute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wsprintf(s4,"%ld",m_totalSecond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String m_str = "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此时间范围包含：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天数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1)+"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小时数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2)+"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分数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3)+"\n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完整秒数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:"+CString(s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MessageBox(m_st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结果在信息框中显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，其中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6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*24+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565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6*60+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内容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73906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565*60+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5   CPoin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Siz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点、矩形和大小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Poi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封装，凡是能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地方都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屏幕上的一个二维点，其定义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ypedef struct tagPOI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} POI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是点的横坐标和纵坐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些重载运算符，使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操作更加方便。如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或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与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加减运算，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比较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是否相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Siz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封装，凡是能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地方都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一个矩形的长度和宽度，其定义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ypedef struct tagSIZE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c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ONG c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} 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是长度和宽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似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提供了一些重载运算符。如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或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与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加减运算，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于比较两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是否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包含两个整数类型的成员变量，他们可以进行相互操作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操作可以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为参数。同样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的操作也可以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为参数。如可以用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构造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，也可以用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构造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，允许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进行加减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R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封装，凡是能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构的地方都可以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代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一个矩形的位置和尺寸，其定义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typedef struct tagRECT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LONG bott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} REC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中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表示矩形左上角顶点的横坐标和纵坐标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别表示矩形右下角顶点的横坐标和纵坐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由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供了一些成员函数和重载运算符，使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操作更加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构造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如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构造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, int t, int r, int 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 RECT&amp; src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CRECT lpSrcRec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 point, SIZE siz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 topLeft, POINT bottomRigh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分别以不同的方式构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象，参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指定矩形的左边、上边、右边和底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r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引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pSr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指针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左上角顶点的坐标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长度和宽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左上角顶点的坐标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矩形的右下角顶点的坐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载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重载的运算符包括：赋值运算符、比较运算符、算术运算符、交并运算符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间的拷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较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!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较两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是否相等（四个成员都相等时，两个对象才相等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术运算符包括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他们的第一个操作数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象，第二个操作数可以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当第二个操作数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正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的大小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则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轴的负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定的大小。当第二个操作数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左上角顶点向左上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两个成员指定的大小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右下角顶点向右下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两个成员指定的大小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运算结果则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左上角顶点向右下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两个成员指定的大小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的右下角顶点向左上方向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C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两个成员指定的大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得到两个矩形的交集（两个矩形的公共部分），运算符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得到两个矩形并集（包含两个矩形的最小矩形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371600"/>
            <a:ext cx="883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2) IDD_DIALOG_A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Group Box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设置添加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AL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Radio Button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全部元素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RADIO_ELEMENT    Radio Button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指定元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STATIC                        Static Text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数组下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_EDIT_VALUE             Edit Bo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OK                                     Button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CANCEL                           Button               Cap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取消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267080"/>
            <a:ext cx="59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联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RADIO_ALL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R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EDIT_VALUE           int        m_n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常用成员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d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：得到矩形的宽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得到矩形的高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得到矩形的大小（高度和宽度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得到矩形左上角顶点坐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 ：得到矩形右下角顶点坐标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tIn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判断一个点是否在矩形内，如是返回真，否则返回假。原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PtIn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sRectEmp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判断矩形是否为空（高度和宽度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sRect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判断矩形是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左上角和右下角坐标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：设置矩形四个成员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规格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规格化的矩形是指他的高度和宽度都是正值，即矩形的右边大于矩形的左边，矩形的底边大于矩形的上边。矩形的规格化函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rmalize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，该函数比较矩形的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果不满足规格化要求，则对换两个值。上面介绍的大部分运算符和成员函数，只有规格化的矩形才能得到正确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常用成员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应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应用向导创建一个基于单文档的应用程序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ctTe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编辑对话框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Group Box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选择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ADD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Radio Butt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加法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Group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SU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Radio Butt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减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Group Box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输入点的坐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        Static Text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STATIC                  Static Text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      Edit Bo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       Edit Bo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OK                               Button       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ANCEL                    Button                   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D_DIALOG_R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Group Box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选择运算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ADD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Radio Button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加法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，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Grou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选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SUB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Radio Button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减法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INTERSEC   Radio Button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交集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&amp;&amp;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RADIO_ UNION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 Radio Button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并集（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Group Box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输入矩形数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Lef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To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Righ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STATIC 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Static Tex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Bottom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LEF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TOP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RIGHT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_EDIT_BOTTOM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   Edit Box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OK                                     Button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CANCEL                          Button      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P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Y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ADD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LEF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TOP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RIGHT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EDIT_BOTTO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_nBot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_RADIO_HESD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nt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m_nRidio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OK           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utton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IDCANCEL       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utton   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ption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828800"/>
            <a:ext cx="792504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OOL CDlgPoint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DD_DIALOG_RE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828800"/>
            <a:ext cx="792504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BOOL CDlgRect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Radio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UpdateData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调用对话框并处理数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视类头文件中定义成员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Rect m_OldR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Rect m_NewR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Rect m_AddRec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CPoint m_Poi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并在构造函数中初始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3886200"/>
            <a:ext cx="66294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TestView::CRectTest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OldRect.SetRect(100, 100, 300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NewRect.SetRect(0, 0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AddRect.SetRect(0, 0,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Point = CPoint(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编辑菜单资源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菜单最后添加一个菜单“矩形操作”，并加入两个菜单项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号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a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_RECT_POINT      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矩形与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ID_RECT_RECT  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矩形与矩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_RECT_POI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菜单项的消息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R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286000"/>
            <a:ext cx="762012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RectTestView::OnRectPo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dlg.DoModal()==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oint = CPoint(dlg.m_nX, dlg.m_n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+ m_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- m_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nUpdate(NULL,0,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添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D_RECT_REC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菜单项的消息响应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380880"/>
            <a:ext cx="8610480" cy="9582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RectTestView::OnRect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Rect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dlg.DoModal()==IDO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_AddRect = CRect(dlg.m_nLeft, dlg.m_nTop, dlg.m_nRight, dlg.m_nBottom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dlg.m_nRadio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+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dlg.m_nRadio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-=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dlg.m_nRadio =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&amp;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ewRect = m_OldRect | m_Add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validat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144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为对话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DD_DIALOG_A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添加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792504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lgAdd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((CButton*)GetDlgItem(IDC_RADIO_SET))-&gt;SetCheck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724280"/>
            <a:ext cx="72392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RadioSe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视中显示运算结果，重载视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762120"/>
            <a:ext cx="8610480" cy="22563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RectTest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Test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Rectangle(m_Ol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Rectangle(m_Ad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Rectangle(m_New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temp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OldRect = "Old rec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lef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top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righ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OldRect.bottom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Ol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AddRect = "Add rec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lef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top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righ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AddRect.bottom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Add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NewRect = "New rec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lef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top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right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NewRect.bottom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NewRec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Point = "Point is: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Point.x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oin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oint += "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m_Point.y,temp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oint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30 ,strOl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50 ,strAdd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70 ,strNew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500,90 ,str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7620120" y="624852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7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33520"/>
            <a:ext cx="7925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RadioAdd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fals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514600"/>
            <a:ext cx="7925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RadioInser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495680"/>
            <a:ext cx="70866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Add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valid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UpdateData(tru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990720"/>
            <a:ext cx="792468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lgDelete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((CButton*)GetDlgItem(IDC_RADIO_ALL))-&gt;SetCheck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false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495680"/>
            <a:ext cx="716292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lgDelete::OnRadioEleme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GetDlgItem(IDC_EDIT_INDEX)-&gt;EnableWindow(true);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49920" y="533520"/>
            <a:ext cx="58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对话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D_DIALOG_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1:48Z</dcterms:modified>
  <cp:revision>214</cp:revision>
  <dc:subject/>
  <dc:title>第四章   菜单、快捷键和控制条 </dc:title>
</cp:coreProperties>
</file>